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7C7-A8BB-4074-A269-FF8CCFE0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6AE-3F16-4371-995A-42BF69E8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990-E176-44F9-8B21-BF64B9B2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D71A-F8AB-4A04-89E3-DA7C93A6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20DB-379B-4784-AC8B-6A60C734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6603-DD58-4351-AEC0-6A19F545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4652-8C31-4BA7-A138-797FC9E1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445D-968F-4DD9-8C23-382A50ED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63B6-835E-41EA-B129-2D1255F4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F96C-3D09-4234-A786-019B850E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9B95-4381-4D71-B678-51258121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2A9-30A7-4419-BF0A-34E3F100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F12C-2416-4690-A314-E6418F22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3DE2-A6DA-4B9B-884B-08E36731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1545-5626-42A7-887E-B7078854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FAF2-A848-4285-9613-722D31E4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C740-90F8-43CA-8D45-E9133724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021-6E98-4DB8-97E8-B33220B6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B40-3EF8-48DF-A646-F3A31153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58B-692C-4D64-B570-1893995B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F2D-FA18-4C77-98ED-2026496E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F93-2201-4F34-922D-4A92DB36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917-5412-414E-AA17-EA785705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B17-A410-4F58-A14A-D139979C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6118-E5B6-4440-8A1E-22106B10A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D44D-EA09-4847-B1DA-66488649B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stado del Centen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uales eran las principales características del Estado chile antes de 19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ómo se relaciono el Estado con la població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ruptura de los consen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ruptura de los tres consensos que sostenían la unidad nacional -el doctrinario a fines del siglo XIX, producto del embate laico; el político al llegar al 1900, debido a la inoperancia del parlamentarismo; y el social una década más tarde, ahogado por las conmociones obreras es a juicio de Gonzalo Vial “el factor básico para explicarse nuestra historia durante este siglo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Cómo se concebía el consens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Tenia más que ver con algunos acuerdos grupales y la generación de mecanismos que igualaban las oportunidades al interior de las prácticas política, administrativa y legal, que con la instrumentación de ellas con fines de domin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El consenso solo se da al interior de lo que tradicionalmente ha sido llamada “aristocracia” u “oligarquía”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esde ahí fueron proyectados hacia otros sectores sociales, como una prolongación naciona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Ni siquiera fueron impuestos ya que suponían como obvi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 Un Estado excluyen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acia finales del siglo XIX los grupos oligárquicos lograron hacerse del Est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proceso no fue un acto definido por la intencionalidad especifica de garantizar su dominación. Esta estaba asegurada desde mucho an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oligarquía poseía los medios de producción, en especial la gran propiedad agrícola; el monopolio de la violencia (el ejercito les seguía siendo fiel), y estaba asociados a los principales inversionistas extranjeros en Ch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No eran grupos oligárquicos organizados en torno a la subordinación permanente del resto de la población, sino más bien organizados para salvaguardar y coordinar ciertos privilegios grupales, fundamentalmente económicos, que desde antes ya le daban una posición domina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17T14:01:25Z</dcterms:modified>
  <cp:revision>16</cp:revision>
  <dc:subject/>
  <dc:title>La compleja herencia del siglo XIX</dc:title>
</cp:coreProperties>
</file>